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84D4-BF81-4F63-A8C9-43AEA81B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54A1-5A48-47B3-94E9-F24AA5BA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6F95-57C9-4899-9A34-70076A47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CDD-8995-463B-915F-8285D068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769-9AEC-4BAB-B940-D4A42822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5DCE-9763-4148-B177-884BB020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4B6-3777-4830-86D1-2EA9B7E0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A3C-D707-4960-BC83-1D410349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0D88-71DB-4525-B793-5C906318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6A03-87B6-4AD8-A235-50062971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514C-D8E0-44B1-9497-512A2FDB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01E-9278-4EF5-8075-167CA73A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6099-592E-4AA4-98EE-B9BE0481F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Seeds of Discontent to the Reign of T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914400"/>
            <a:ext cx="57150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ff"/>
                </a:solidFill>
                <a:latin typeface="Arial"/>
              </a:rPr>
              <a:t>LIBER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GAL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FRATER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924520" y="0"/>
            <a:ext cx="32194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uis X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02120" y="3052800"/>
            <a:ext cx="1138320" cy="1619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1085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ie Antoin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ian Princess- Hab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1085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81400" cy="1590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43200" y="228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bsburg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37920" y="380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state- Re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nis Court O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52387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ming of the Bast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Y 14 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Independenc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tille- P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isians stormed it, concerned that the King was keeping weaponry (arms)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38360" y="1219320"/>
            <a:ext cx="570564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e Unicorn Tapestry below have to do with the GREAT FEAR?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orn Tapestries now at the Cloisters were originally owned by a Noble French family, they were later stolen (during the great fear by peasants who used them for potato sacks!!!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4799160"/>
            <a:ext cx="2209680" cy="2058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4960" y="3946680"/>
            <a:ext cx="302904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ew 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3832200" cy="4038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34120" y="228600"/>
            <a:ext cx="3809880" cy="3432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477120" y="3733920"/>
            <a:ext cx="2349360" cy="3124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352680" y="152280"/>
            <a:ext cx="1905120" cy="1273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800600" y="3809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9810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 IS DIVIDED INTO DISTRICT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530280" y="-15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85800"/>
            <a:ext cx="5029200" cy="91692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year - 365 or 366 days, - 12 months of 30 days each, followed by 5 or 6 additional days. The months we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5302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1676520"/>
            <a:ext cx="4114800" cy="338580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 - thre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éca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10 days, of which the final day was a day of r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-Christianized the calendar, it was unpopular because now there were 9 work days between each day of re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n days were called,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di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Duodi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ridi(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Quartidi(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Quintidi(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Sextidi, Septidi (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Octidi (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Nonidi (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Decadi(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280" y="1143000"/>
          <a:ext cx="4648320" cy="4049640"/>
        </p:xfrm>
        <a:graphic>
          <a:graphicData uri="http://schemas.openxmlformats.org/drawingml/2006/table">
            <a:tbl>
              <a:tblPr/>
              <a:tblGrid>
                <a:gridCol w="457200"/>
                <a:gridCol w="1866960"/>
                <a:gridCol w="835200"/>
                <a:gridCol w="1488960"/>
              </a:tblGrid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démiaire- (Wind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um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é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m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irial (spr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ôse (aut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i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viôse (Rain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midor (h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ôse (win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cti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4952880"/>
          <a:ext cx="9132840" cy="914400"/>
        </p:xfrm>
        <a:graphic>
          <a:graphicData uri="http://schemas.openxmlformats.org/drawingml/2006/table">
            <a:tbl>
              <a:tblPr/>
              <a:tblGrid>
                <a:gridCol w="913284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Year  started on autumnal equinox (around 22 September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Years are counted since the establishment of the first French Republic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on 22 September 1792. That day became 1 Vendemiaire of the year 1 of the Republi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347760" y="3122640"/>
            <a:ext cx="1133640" cy="1133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733920" y="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nch Revolution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6095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HOW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 DOES THE CALENDAR REFLECT THE REVOLUTION AND THE AGE OF ENLIGHTE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nce Prior to the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cial problems beset France- Expen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erican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 Year War 1756-1763 (also known as the French and Indian W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nish Succession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strian Succession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lightenment Ideas stirred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lons- discussed ideas of Democracy and Lib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ltaire, Locke, Rousseau, Jeff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l Revolution was creating a new class of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urgeoisie – Professional Class- Not Nobles- Bankers, Lawyers, Do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f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stiges of the Past- Serfdom still existed in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or harv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2263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urope had many wars in the 18</a:t>
            </a:r>
            <a:r>
              <a:rPr b="1" lang="en-US" sz="3200" spc="-1" strike="noStrike" baseline="30000">
                <a:solidFill>
                  <a:srgbClr val="ff33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Century, often over colonial territories as well as who would dominate Europe (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Balance of Power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e Seven Year War (French and Indian War) was particularly costly to France, at its end France lost all its North American Terri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181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nce and the American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rican Revolution- France’s support for the revolutionaries helped the colonists defeat Britain…but..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erican Revolution embodied many of the ideas of the Enlightenment which were being discussed in the Salons of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794200" y="0"/>
            <a:ext cx="334980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f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fs- Peasants tied to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erty stricken, much of what they grew was paid to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fs were required to give a portion of what they grow to the nobles who owned th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lso had to pay to use the mills and ovens and still weren’t allowed to fish or capture game w/out the Noble’s per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vee= Tax in the form of work on behalf of th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yal Taxes- paid to the King’s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hes- 10% of what they grew went to the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1085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1085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867280" y="380880"/>
            <a:ext cx="90648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286000" y="380880"/>
            <a:ext cx="90648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7861320" y="4267080"/>
            <a:ext cx="1282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53160" y="1143000"/>
            <a:ext cx="3390840" cy="5419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rgeoi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lass of Upper Class Professi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s of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bles looked down upon them, however some of the bourgeoisie were wealthier than the Noble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Political Power- Members of 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1085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Catholic Chu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%+ France was Catho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member Louis XIV revoked the Edict of Nan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rdinals, Bishops were treated as Nobility, they were well-edu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urch was not taxed- Huge tracts of Land were owned by the Church- Some lands had ser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ocal Priests were not treated as well, often poor, not well-educated but well liked by their Parish (chur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108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181480" y="129528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124760" y="0"/>
            <a:ext cx="2019240" cy="2857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553080" y="4948200"/>
            <a:ext cx="2590920" cy="1909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0" y="4952880"/>
            <a:ext cx="1235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1085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tes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ate- Church “nobles” – Card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ate- No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ate- Everyone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rgeo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s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s-culotte (urban poor) (cool people wore short pants, they had long one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 Procedures- Each Estate gets one Vot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bles and Church “nobles” typically ally with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1085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12:06:51Z</dcterms:created>
  <dc:creator>Darien Public Schools</dc:creator>
  <dc:description/>
  <dc:language>en-US</dc:language>
  <cp:lastModifiedBy>Darien Public Schools</cp:lastModifiedBy>
  <dcterms:modified xsi:type="dcterms:W3CDTF">2007-03-30T17:25:03Z</dcterms:modified>
  <cp:revision>7</cp:revision>
  <dc:subject/>
  <dc:title>FRENCH REVOLUTION</dc:title>
</cp:coreProperties>
</file>